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0F6D-B64D-427C-8761-1A73E0A6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C253-EC64-42DE-8CD9-D70E5017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61D9-58BB-4229-8CD5-AF6E0C27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CC26-D755-4096-95EE-E57755E9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9352-2CA6-4023-929F-FB3CE4F7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D8FD-6D88-492E-9E5F-35BE1EBC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E50-2C54-4F22-821C-02D584D7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16E2-B59B-4C77-9A66-719636B4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714E-3B35-469A-BECF-C8C5E57D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DD8D-A8D6-4A60-9EF0-2F01796B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B470-302D-4408-92C8-AE148BF1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1372-1C26-439A-B3E1-46451195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5786-D180-4DA9-9DB1-BE867D5C3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power point was made by: Brianna Kahler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aige Liebowi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Rectangle 3" descr=""/>
          <p:cNvPicPr/>
          <p:nvPr/>
        </p:nvPicPr>
        <p:blipFill>
          <a:blip r:embed="rId2"/>
          <a:stretch/>
        </p:blipFill>
        <p:spPr>
          <a:xfrm>
            <a:off x="1103400" y="798480"/>
            <a:ext cx="690084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ease take our fantastic quiz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irst part of our fantastic quiz is based on the key terms in chapter 3 section 5.Directions: match the key terms to their definition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terms 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e                      region of the Nile betwee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catar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er Nubia      a worker skilled in making crafts b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per Nubia     minerals that are mined and used t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 met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tisan               region between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taract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the  N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was the Napata kingdom known fo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venting writing        B. weak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litary lead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Calibri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ilding pyramids in           D. skilled which to bury their king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tter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was the Meroe kingdom known fo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arning to make iron weapons and too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eing a small isolated commun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d coronations of Nubian kin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aving a weak army that recaptured Egyp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was Meroe’s source of wealth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king gol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king potte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gricultur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a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We hope you enjoyed our slide show and we hope you learned a lot about Napata and Meroe!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22:56:16Z</dcterms:created>
  <dc:creator>Wendy Kahler</dc:creator>
  <dc:description/>
  <dc:language>en-US</dc:language>
  <cp:lastModifiedBy>Wendy Kahler</cp:lastModifiedBy>
  <dcterms:modified xsi:type="dcterms:W3CDTF">2009-01-16T02:17:42Z</dcterms:modified>
  <cp:revision>11</cp:revision>
  <dc:subject/>
  <dc:title>Slide 1</dc:title>
</cp:coreProperties>
</file>